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3E5-F431-41EC-851D-004E92B8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AB62-C63C-4DF0-A853-65AE397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BBC82-2E5B-4FBE-8A6A-8437671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1D4D7-E125-4687-A89C-D6E6E44A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0B63F-86F6-4C41-B58A-544FF25D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3D1B-F5B2-4919-8ED2-9BB36738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D93A8-147E-4A26-A61E-2455FFFF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5BA4E-D5D0-4B76-8743-4CD24094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1A80F-89E6-445C-A903-EEA04423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99420-F83A-46D8-A715-6F7E3FB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B99D9-5B36-46DF-85B2-6BABD44B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D0FBD-71F6-4DBF-835C-DC82D7A9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4B5-8EAE-4B1F-B951-C3E319FB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B7980-7D68-4D39-8865-8DF656E2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469C5-ADE5-4624-9D45-542E4B1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44DF5-17A7-4E1C-8835-B0792A5F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F758-40FD-4162-91B1-24233C05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42C3C-C407-466A-B011-CD7038F5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AD0A-5849-4DA0-862A-B77D93F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D9EEE-86E0-42B3-8E7C-27F4ACE8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F7106-C7E7-4C35-8425-9B6EEAFE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B8024-E7D5-408A-B57E-DC5630B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99AED-1FDA-411A-9FE6-DC8E2C2B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985-FE7E-4A3E-B200-B058EDD3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FE1C-D669-45C6-BC53-6DB1C650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255D0-54BA-4525-8DA3-40C93F18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F06FB-71D2-4B5C-A2DE-8145B752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C237-1D7E-435F-893D-0AF689FD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18F27-724D-465B-8E64-35F6463F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C361B-A4DF-4577-93C3-2C569D3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25C5-4E9A-4AFD-853A-C91F6898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B02C5-5DB1-4FFD-83EC-E6D1C242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CEB26-50F2-4194-8A2A-8EBC6B6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4D9B-6144-40B6-85D4-97B6CE3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4E2D-3A32-4FCD-857B-D12578FD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5767-F4CC-43F0-8795-6C61960B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CA11-5A64-49FF-A7B0-7B0B71C5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75708-9D60-4B1A-9565-5AD6FCDB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EF5AF-2C12-4B64-B8D6-55F0D682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4CC33-DEA8-480B-B0BE-132192E8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2CE7F-3224-49FA-BF58-EE5BAB06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F40E7-B88C-4238-AC19-0774B839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56CA6-9F5C-45D6-A245-8AC69A6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2E3B-6AF9-496F-A049-4E13182F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807E3-8A64-4D9C-86FC-6CFA8840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20FC-066C-4368-9883-002A4DC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EAA47-E72E-4F88-8E61-B5226B4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C71D0-9E76-47CC-AA7D-E0ECD79F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309C7-528E-4663-BA47-81B0E16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38DFC-3FAC-4293-A006-059E84F8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BDC68-3AEC-488F-B517-D90C33DF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510CC-7FE4-4DEB-8B5D-88F6880E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278DE-1831-406A-9280-D217E667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2040D-DF8F-4B86-9A10-E57DC7FB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72200-885A-4ADB-8E3F-D24DFF1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2E6F7-B5D2-43EA-875D-225EC43C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847B-33CB-4203-98DD-193200BC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74A15-DDAC-495F-93DF-65C10DDE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BAE8D3-699F-412C-A75A-453BDC8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0B30F-D13F-4694-BD8A-FCE89874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F907B-4867-4300-8196-F8853810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6ABE9-9A70-4854-AB29-80ACA22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BF25E-02B1-4874-A29B-B6124222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B7D5F-4A9A-45A7-B4D8-3F14F8A1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6482B-03B7-47EE-8D73-D96D522B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8FAC6-D5C6-4915-A673-CAF56A5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00790-7F80-4526-AEA8-189F3837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DEFF-E444-403E-AAD7-CEF29E63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E33FC-3F37-4204-8D14-478DB62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C48BE-48BB-44B9-A966-82F0F255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42C74-FD16-4543-8DD5-ED8EA7F5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C1ED2-9AA7-4F87-86B4-83B2F344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BF53D-4C82-46EB-B14B-D13D928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175FB-96CC-483F-99EC-647F6AB6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007DC-9C9A-4923-953C-F0B61B9C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66C4C-4B85-4134-9FEF-4C6DBA64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1DD7F-68EC-403D-9D6C-3D2DA49E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57823-BE95-4861-96BD-CF80D1AD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84E6-330C-47AF-B95C-4894214A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7D802-C3D4-4061-95D3-D79FFC9E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EE974-65FC-4677-B6C0-77CB1D08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718DD-C812-4BDB-9184-8B8CDF0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3DEE3B-D045-4C5F-B223-628650DE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A905CE-886B-40FD-9422-EBE1F09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2A3C2-0A53-4B1A-B591-A3208E01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5B695-7935-404C-888D-4AACC2E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3BD98-512B-4BEF-A209-6E1A6D8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720D7-3720-4F7E-8DE3-C3F0D1A1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1A6F2-5DD0-433F-A3D4-4CAC4BA1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C38C-A583-483D-A61A-2F449379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A665E-6AE0-4128-8CA2-D42CE810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9F576-B6BC-4C0C-BD45-B757A532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CA024-F3B3-4D26-89F3-D8A99733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EF516-0B1E-4298-833B-E1F2F3F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BA8BE-5773-4DAE-8F9E-92DDF94C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2E95C-C973-4943-BC3D-C347F915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617DD-008B-4E81-A0A4-3FB33D49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244F7-8185-4C73-AB81-FE94C9E8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15BCA2-59E0-4872-B173-37A18EA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ECC66-434C-4F63-8141-5CBBA028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976-91BC-4623-937A-74A7ADF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2C81F-A499-4AA3-8CA9-5B8F70C7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2F0E4-C857-4647-BD0B-8F2E12FF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BF3F9-D745-4626-A9FE-75F17812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D69356-78E7-4889-A6E0-930678EC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C2114-DB19-4283-8E61-35A0E88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2BF44-1E22-4B7E-B0A2-AB71462A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177AB-A0FE-4456-AFD3-B35CF985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57267-1C8B-4783-9A5F-072FFE35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52988E-2FB9-43B8-8093-0D884AF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D6F6C-626D-4F0B-B1DB-FC0FBFE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9FE-AF80-42B3-8B09-2368CCBA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63E0-BC3B-48DC-9598-5C42B827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5A088-EC26-47A9-B84F-498BAECD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D0FBC-A209-4E9D-B6EC-C81CFC0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C0BD8-974C-40A4-AD5F-AE57732D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B33E44-3B32-42B8-B73E-27944E4D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7D5B12-4B85-4C22-B6A7-A805F4A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829FC-E8C8-44C8-A949-72C4BB95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CC15C-4242-4BE4-83B9-4E9FBF03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21CBA9-42AA-4B0A-B06F-3360E5C0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555F8-30D5-4A83-AA67-422F2AD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A138E-952A-4EC1-ACB9-B893186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0A96-F3BA-40C2-AD37-48255885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2672D-CE19-4CD6-9DA0-99A3878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7154A3-6619-4467-BCDA-03C89D7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357B0F-ECE7-44E1-B2A6-B1B4ED8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A7C16-97D4-431B-A2EE-48F275D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B9D56-4E0E-431E-A162-AE68382E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6B1B00-B806-4D9E-94D0-403A3D27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A2307-633B-480A-A80E-5D1E8C77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18A417-018E-4651-8A57-8BB72CA3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69EFB-3FBA-470F-9A2B-7433D545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001324-E9F6-47F8-94AE-E5DAB8BE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38E-499F-47B4-84D1-B9310E1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4F3DB-91F1-42EE-A91F-888C255F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FB88F-E607-4062-8B74-6A3A4A1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972D19-E33D-4ECE-BC6B-3E0C5C6D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5BC655-2349-4A23-B718-F9CE8645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26626-F00E-4CA1-AC83-6883FA0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277EE-454E-441D-8B7F-5C48F4D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629D8-334F-4766-9698-1F134807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8E9A8-0481-4AA1-A7D4-5394900A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866016-2C45-40E1-B3EF-454F98DE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1368C-10D4-4449-9724-8485452D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D0C7-DA7B-4B4E-B80F-63F747CA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0B168-E40B-4DF1-9182-F505AFF7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35395-E4B6-4B33-9505-3EE34DD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9F9A8F-9B30-4CD3-9D32-01E163DC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3EEDE3-45C7-41E1-92D0-D6BABB52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4EB8FB-0D09-4BED-8926-E362289A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39267-62D1-4AC5-A059-A6712280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CC0256-B6C6-4886-8805-F111711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80938-AC7D-44E4-B4B7-A4CAAEDD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CC836B-317E-4611-AEEB-DAE8C08E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DF8F5-DE79-4BF1-BF5D-AA5B0FAA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3C3F-7740-4D58-AA14-C7E6E3F2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9073E9-1C01-4661-B674-0E5614A4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3ECCB0-2D60-4F62-A72A-00A0306B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15A0E6-5542-4C20-BEAD-5C706835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D89A12-959E-4808-9C60-18228349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23BF6A-B1AA-4E01-BE9D-993BCC1B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042BD-EDCC-4365-BDE9-F95EC0D7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FC0B7-463E-4EFB-B506-5EFDAC6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02597-EFC3-48A1-852F-6AED9839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F92B2-8D48-4590-9D61-F8FEB7A0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F908A-279C-4824-9D8D-297717F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7ADA-D5B4-46A7-996A-54225808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0DA1B-E23E-4E11-97CC-65B48F42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91FCD-69D7-4F1A-B4F3-821FB295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D77461-6E22-41D0-81A4-196443EA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8CE3D-F0E2-4D17-911B-78BEEAF8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00CC52-F7F5-4419-B62F-915D5379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630F70-62DC-427D-A207-9C45AF9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330B30-E183-49A5-A262-AA8AA296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27E80-FA97-4CF7-9D24-ED62851E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EA3F5-FA27-4D89-9335-1BFBEA5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B5A4FB-C366-49C8-9E7C-C0373F0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5103-EC39-49EE-B07D-C57C4ECC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27EA8-3A2F-4AEF-AA7E-46677BE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3BF48E-ADB9-46D9-A175-ED2739B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95EAE-924F-4F27-B22D-72B43A37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FDC4D-4100-4A42-B297-D3FDA2BB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4143E-9861-432D-9374-4F76ADCE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565D4-B084-424C-82D8-B72E223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763FC2-D3F0-474F-84BF-03B46318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5D47A5-DDE4-45A5-9275-B7F1C259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ED8352-3276-44E1-AC17-CE049F26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0EE9B-3F4D-466D-8B60-740BABA8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66CE-8730-4267-9EA1-3F453FC1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1BB386-AF72-4AA7-ACD3-60B242D4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1FDCD2-9B70-4DF2-8B06-C7DA2F82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0375F1-334A-4912-BD6A-9FC16CF3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2E0708-4034-4DB2-94EC-9A53C2A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229CC-54D6-4BB7-AFC3-8C60D5C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2F3F67-457A-4B4C-A39E-D92621BF8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127BC-AE53-4043-9067-39457E33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BAA2A1-BD69-42BA-B15A-3656DE02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FB32A-088B-4F5F-8451-BD9C71C4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407910-E073-4F67-9796-DF2A5790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E20A-93EA-42B5-A57E-6DA836F2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ACEFF9-1E10-4BCB-B897-1C8D00A6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BC3C8E-F688-4EE5-AC7F-43FA44D2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04C23-0E65-46C5-8F2B-E33B0BA6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005FB6-3E05-40F2-AD01-A9874F6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CA38F-707C-4F4B-A9B6-A25A2F64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BAB00-F8CE-4034-9AB4-1A384613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D1D780-CB73-49CE-BF2D-12AADA5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375546-1340-4CCE-8EF3-EC041C34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3265A-6CC2-4D11-AB91-CE7ED176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42B36E-2BE6-4E8C-8FBE-5FBA0076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8575-E8E8-4567-90A6-04C4277F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7A68A9-2BC5-42B6-A7C8-BCF593E1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CE07B9-70DC-4AB7-AA0A-BB77A1E6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FC1584-C358-4FBE-8D1E-1F1B8E4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AC8BD2-3188-4FF2-BB72-15ADBAC7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7BFAA6-0D9E-4581-A019-8E3DB7F5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D14E1F-D40C-457E-96FC-31F6E544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9302A5-EC69-423D-8BC4-CAB440D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ED0FA3-BC13-4045-8FC9-F0E7B45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E8F054-72A5-4D44-AB9E-45C8A98E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5C8DA4-CB09-495C-8EB5-2A685216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8BDD-6E0E-4869-86F1-40340EE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68E9-57F6-41B6-BCAF-8CCD2CF6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8D3EBD-CFB0-4FF9-B556-3EC41505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AE947-6F66-4CA5-8FA7-6CBF627A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C314E2-7185-4D3E-8A0C-6DD83EC1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8FC607-2699-4C7D-9EFC-FB8439D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30505D-0891-4B0A-B338-42FC881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CF89B3-4935-411D-8A40-A3BECC2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20B233-4CD7-4CE9-96DF-64B9CACB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4E9F25-E306-419F-9811-20B7CC4B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A2C1BF-7C28-48EB-9161-2A4C0AD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2101E-0629-4C39-B9A6-0164F7B2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D147-43E9-4DF6-8CA7-B1CA6111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91C1FE-84C1-416C-A1BE-AB00A90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96D42B-3A71-409D-AD3B-C0B1287E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361124-74FD-4D71-BCBA-3667D214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8899A3-E911-4A7A-AB2C-E1FCFBE9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F49F9A-E9C6-487A-8C41-59F89666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92C1AF-7B4C-450A-BB1E-D12DD8D8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2F8EB8-42D2-42D4-93C8-4E24A8D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3164AB-9DFA-47DE-91C2-29D94714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B73A2F-BB01-4F72-930D-5E0C0E1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589450-D75B-4C2E-9616-9905AD2E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BDD63-E63A-49D3-9E9B-6E299F3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0B4184-240D-47A3-A825-CE28D64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93E2C5-8EC7-4398-9DB4-631E5B5F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1A8F4A-9402-46CD-BA3D-BF8F7CC6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C15CE8-8449-4054-A45F-B488F3BC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122434-8C4E-4A6F-A466-CCF3DF83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CDCF92-F0D6-4F2E-A7C7-672D8134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646C61-BD72-42DA-BDC5-63026148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F43CD9-4283-42E5-BAFA-8811E0D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2FD071-7ED3-413D-BC9F-752C3C9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AC43CA-2905-4178-B3E4-CDF2279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BA23-8974-4AFA-847B-7A86655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4EA3DB-DC04-48E4-894B-1F73E0A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B67D55-7A3C-4DD0-AF93-19D62E9C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054038-9F99-496E-9085-3FE4250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BBDAF6-58AA-4938-A33C-DC49B195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2F4602-DBBC-41D4-8ACD-48D32DD2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D49CDB-5E2E-45D7-89E9-A33E0CB0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B502C9-2B23-47DE-837F-A50A4A43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5192CE-A3A2-4DE1-9CFA-1692A881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3E4C06-CBDC-433E-B4B8-3FA9A37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441E8D-D1F4-48C3-92AC-55F07211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1AE8-1326-4ABB-A458-AC99567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6DF71C-36DA-4E1C-B6BB-67AC689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59CEBF-5D8B-4774-B88B-5B90B20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CB4A7F-1878-4EB7-8FAC-7114B24A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07E0CE-59C5-4AB6-9088-853AFBF4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A1A48B-9DE4-4687-A5ED-434B587C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1CBDED-C10B-40BF-AE5F-C7F6F8DF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04D52C-2DE2-4025-BD79-D8AF365B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2CD4CD-D8FF-4D08-AC72-5BA6D856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38D81E-A238-4D5C-813F-9F4DF314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957A82-6B0C-4255-B0EB-7F793348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692F-FE57-4D40-A926-F29A3BA7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3FFFEB-167F-4B92-B7DF-C899AF46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C14F64-012D-40AB-A2EC-1F90EE09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506046-7190-4F34-9A0E-986DC4F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47417D-37BB-41DE-9E56-1675968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E9479B-4E56-4E18-B565-08FB6014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74146D-861C-454F-8504-6C26A06B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0EB962-3898-40DB-9F2A-5595B227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46F813-13F2-46E0-8DA9-BC433D2B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9C8FC2-4AE3-44EA-9BD8-8C66367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DAD220-1CDE-43A3-8C3D-8B2EE145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7F38-E655-4BB0-ACCB-D8AB127A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ED95F5-F348-42DA-BB6A-35C95BE0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ABE836-E277-4EDA-9BBE-75E1BC2B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BED52C-22BC-4F81-B96A-77BDFD03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C44E2E-A2B4-4A07-A1E3-0A670318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9F86FE-CE7E-44E5-9E33-0F4A776D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F32877-DE0E-48D2-815A-EB620CA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F52560-5A1B-4EC7-8CF1-9BED3FBC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3DF26E-E908-4D5A-9A7E-F78049C1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EDBA2A3-E62A-47D7-8D51-ED53AFA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F95BBCC-36DE-4825-8E6D-0E2EA33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EA08-4BD1-49C8-80E3-74867DA4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6C86EF-5F14-4115-966D-CF799637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B9485B-DE95-430B-9018-FDFA93DE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77735-DFA6-448E-8F07-344955E1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A4A045-0CC5-4BF3-B218-17082A0A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1CC887-EDF7-4239-A62F-68AA0B8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8385F1-EE2E-4B30-BC75-367B841F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9128F8-3BCA-4365-ABAA-FB99EC91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7D71B3-6DE3-467F-96A9-96B9BC4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A064CD-916B-4A7A-BC50-3DEF56BE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8DF81E-A8C1-4285-927B-650EEAE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448B-EDBB-47BA-AB0E-6F977EB6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197DAB-4689-4694-B0DB-FABF38D9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341F505-0420-45C8-8888-1B963863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9D5DC7-3F9F-405A-83AB-5FD284C1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F447F2-BE53-40B8-B69B-C00C2468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80610C-78AB-4BCB-8A0E-28DDE9FB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0A7FCC-05AC-48C8-8492-5BFA58F1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15DC61-7CF1-4A61-AF4C-81DD2D9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60F4AB-5CAC-497D-953D-936E7160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973DCF-EBAF-44D8-AD9E-B0551EAF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C353E0-F335-49DE-94FF-D04B263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1A77-FAF0-4C30-9B1A-A91A8F5A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EFF26E-BFB8-4439-B687-39AF620D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30773B-B220-487F-A6AD-BB56223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11AEE0-35FC-4A0C-B8B3-60807A3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039EED-A308-49D6-8855-7C02419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F94864-37FD-443A-A59B-B1EE7814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8AA265-C22C-43FF-A88C-ECF7686D1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22E533-55DE-4F27-9811-B3083B08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6E0047-3AF6-4F12-AF9B-DFD393A8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73EC0C-A96C-42B8-8914-AEC0C666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6D8D7B-8384-418C-B06E-052CF10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4DE-1DBD-419A-9F58-3EDC2A4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09469-1163-4D64-8F17-F1697DB6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3B844A-CED7-43D2-A56A-AC3E7092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91E84A-FA62-483A-A04B-DA627B07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D7783E-486C-47DE-BB03-6AA8977C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3D4B7A-6E30-4A5B-809C-86687DE9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AFF468-EF15-4ED3-9193-E85713B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81E11-DA65-4345-9CC8-67BA92BC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0FBD98-6F67-4B2A-B5D8-D4FE61D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4075F3-FC78-4866-BF75-26D4C3AF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09C19B-93B3-4A28-A541-1D88466C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0813C4-94E1-410B-9E99-6661D3A4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1C0C1-3324-4305-953D-079E50C0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36EE67-D160-45D4-AE54-1BDA03ED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5F6628-4A33-4E43-8C74-0BFF72B5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0D3D3F-C8F2-4B26-B008-BC68EB3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563F22-47A7-4BB8-A2A4-BE4702DC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6F28AD-EFC7-4BBC-85D6-18D2A0EE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84B0A2-149D-468A-928D-AA796E8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87F086-0B46-4BA6-9040-C78F015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9A5506-949C-4F21-A316-B74EF18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96683B-6832-4CF0-8A90-D5A4AC51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44BEEF-02CC-4951-A0F2-9B248532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2585-50E5-4E27-815A-24ECADC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B24D44-9B3F-493C-8C7D-3ABCB6B7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077F22-2BF3-473D-8760-546C1CA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121924-6EF8-4A0B-9928-E34752B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B2D2E1-CCF7-4CE6-9C57-A16AD778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1EF7A8-269F-43CF-995D-DA811DCA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0972E8-C2B6-4D9D-A567-CF76B5F7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532169-1DDA-4FE7-B3B0-688A47A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A500B9-E743-4084-BB19-4D7581E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63FAD4-5C3B-45F6-BFAB-976E3637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69C10D-5258-4F55-AF84-7943A75F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A72C9-283C-4501-87CA-A0FAD77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C15721-D25C-4CF6-B2D1-70C5C2E5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EBF85A-E36D-4176-A8E9-C861E7D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80818D-068C-491F-AE25-04DE670D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42D964-1442-4E28-B6B6-A3D23539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105235-7D71-43B6-9749-44E749BA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2D0B11-E1B3-4FAF-89E6-9514839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AFC7A3-FC92-4F2E-816C-CA8630DC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7CA8E3-7375-4D70-AB17-22285AA1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EFA555-65C6-409C-88FF-0776771D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1A9087-3F57-4829-A261-6B97DA8F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04CA-345C-4F8B-8985-3D2B9C1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A76D90-5119-41CC-B72A-B72A1EF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127B39-B704-48D5-8F18-48534E2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19CA62-68D6-4FE5-9060-5F63BE2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13DA0E-5FEF-4690-8970-F97C046E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3BCF49-5E50-48D7-A6FF-CC63531B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9393D9-A9F8-43B5-B309-E1425C16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C76C3B5-0E41-4EE9-AD0D-11F6BACD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A049FD-7381-4010-A221-1813BB87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079EC7-EAC5-44E5-BF3D-0798C9A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4068EA-1ED5-416E-8142-732C024E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4DB5E-AB23-46B4-984A-EA5F6F06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280A58-A7DA-4034-8E09-2975959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F98814-0B25-4650-BBFD-ECA76DD4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4CE52B-9785-4112-BA0A-DACF03D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6286A7-7CB9-42E0-BE7A-9C87421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BDB8B2-4B0F-4B4B-89C4-A6403E77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711C53-0131-4DAA-80A8-2D6BFB97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F7A669-C0C5-45B6-9EBA-3BF022E5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553DF1-E601-4B31-8F66-58DAC642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FA42A3-D220-470F-A2FB-B4A44A9C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9EF1C2-9C0B-494E-9F11-766DF9B7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0C58A-C38B-453B-A1B4-8D4D05BF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BA6C7C-8636-4664-9697-89A5E585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9C32CA-C800-4892-ABAD-A1F4185A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2BC1EE-7537-4D55-AAEE-081E5FEB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444D7DD-AB16-49BF-A28B-7B07D0B1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3C9CBF-4515-485B-B15F-71ED089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4F1D9B-5CDE-4AEA-994F-AE494EB9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D6AB041-20F0-46DF-ACD2-6690CFE1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0D0C36-B492-4E61-AFB5-4C3EB9A6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B86BBA-A9EE-4131-8E43-9AF4EA6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FBFCCA-4DEA-4E8F-8CA7-7B839A06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36F64-4494-4386-A507-CF97E566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09C83F-9C41-4048-9F9E-527AF7E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3902B5-D0E6-4EB6-946C-9BB6E51F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8E79E3-98B3-44B6-A1A6-982A2C49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3D1570-00AB-4530-8E6C-C9CBEB61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D3EAFAD-815D-4103-AB46-763332B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5C497B-023D-4953-8BF6-E8A24CE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D021CBC-71A4-4BC4-A278-81D7E95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14C650-6E62-4108-A84B-74093E9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95940C-8A64-4823-A68B-2EA3847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8E9E761-4B38-4D9F-A6DB-4317C58B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C27E6-C2D6-4A3D-8E23-58B6EB0D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D48200-EE3E-44D3-8407-3949F354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89A5FC-549E-49DD-9295-3D48EE7A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904C8B-31FF-4333-BE88-ACA08BE2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733F0E9-754F-49C8-A755-66C49D25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DD8856-6328-4283-BCE4-608AE54E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316333-731D-48BD-8553-CFFFBC0E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0F6990-6AF5-40F9-BC32-DBFB72D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F6B62D-D465-4595-9AFC-7827FF9B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D65BA5-3C2F-4A23-A5E2-347E39D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44B651-AC9D-4DB6-B365-33CF973B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4930-3F90-4AF7-9C47-993A6104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169764-628E-4AC8-B682-B2A95EBD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B5F55C-B2A2-4487-AC23-D208046C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0C2524-0476-432B-9DF7-A7B4DCDC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F666D5-06C7-4AFB-8923-C91E3DE7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48DE4E-4480-4884-824D-F5CD1915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B46F0E-9DAC-4A2B-BAB5-1B06DEAF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4D0C51-D3F4-4687-95E8-A2E5607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CFABAF-DD1B-4043-B621-ED2BC2E7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A99885-1479-4F8D-B0BB-C1DACF24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2A4D0F-88A0-45B2-A48E-BE55969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DB3-B063-4E7A-9A64-111B6E1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F703-C15D-4DE6-B2DA-38AE0EAB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8E8CE3-3FFD-4245-856B-26C4E6A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E5FB0F-6C5E-4A73-8F50-81997926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ABAD13-9A00-4712-887C-102914FC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4885D6D-76DF-40FF-881A-6AEB33D6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9CCC125-EBB2-4A04-90EC-980EC647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1E50-B16D-4050-89D7-4DBDE8E1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01686-88DC-4B75-8397-DBB91CE0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CA1BF-1963-4EDC-9BA5-693CA07E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BE562-22AA-49AE-AA07-8A63A71C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950AC-065F-4811-9973-AEC4C586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3D259-B343-4B81-A686-31AD0BD4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BCAF3-21E7-415C-9A8E-E526168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B328C-661C-4E85-B687-2017AB48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3F29-057B-4164-96FC-C631C845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8E0-6F3A-4DD0-A11B-454B419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A34A-D435-4FB7-B40B-215ACF69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36352-CAE4-4127-BE27-D4095429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04792-1462-40D7-8C67-F5592249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5F44-0727-4F03-AB5F-9EC6F25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421A0-91BB-4762-9537-5AE55968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954C-2DBC-41CB-BBD2-76CAFB12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1FAC-AB2D-4C63-B499-30DC125C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FD5F-A2DB-471A-9B1A-656D32AA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389F3-86AD-4AED-BD86-D38406DF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92395-FAD0-4D77-A6C7-32EF20D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F03-C8E8-4C0D-89BA-0F1FF544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0F48-B915-46FD-8DD6-F4EDFC8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271E6-C6CF-4A01-A1BD-D319EB8B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3E34C-E7EF-4412-9039-434597C7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476E3-B8BF-4B81-BFC2-F720ECAB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41FDD-7378-4799-B7FC-CC409056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5D5C-F268-4294-8680-A299137C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571DF-05FF-4E70-AE03-EB85185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BD083-26A2-450A-ACD3-B1369B12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282C-F652-4529-9C00-8A4AAFC3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90C5-28B7-422E-A77D-1DD313D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F10-00E0-479C-9924-AFA3A03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AD461-BF31-4A78-B940-6804C96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4B05D-7F5D-41AA-8B06-DD84186B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60EC-9A15-4523-BEA6-E554681D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3AD34-6CA1-491B-A5B8-0D36725F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9BDB6-91C1-4ED6-9B3A-670BCEAB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2615-EEB5-4BA3-BE38-71A742258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B6D9A-23C6-499C-ADDB-2960C309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D105C-E680-46A0-94C3-F16262F5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615E-8B81-487A-8681-38E5C370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B3C61-6A0F-4794-B091-59D9CAE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A4F-7558-46DA-BA68-DFD41AD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0F5A-72CA-408E-9A5C-3CF2DF02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B5E70-4CC6-4686-9443-6E9A526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496C-F200-455C-8323-4E6D626C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2548E-F346-41FD-A98D-46E116E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9980E-4EE6-4F4E-A855-E80FC98B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5D885-C521-4BEA-ACBC-34233551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96FB3-C3EF-4B80-B641-120AD4D2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E261F-A769-46D5-8A0D-1AB1499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0D32A-06D7-4F6C-B729-DB7E5DF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45C6-3A7B-436E-ABA8-83E55BB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AFF9-EE99-4B4C-A98D-39CE957A4FA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BCBD-BA64-4568-A3AB-CE0AFA26B4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AE1E-BF61-43AF-A97F-D0D59B31BD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56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57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57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1AA-58AC-40E1-B0F2-9ECE72788E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F496-B75C-4D57-A2BD-34E9924E14B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6B71-EC6C-4362-9208-A996AC4993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91E8-CD27-4EEC-9633-C892AF93F95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C75E-1D62-4D64-B808-00B7F6D945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592B-9FAF-4493-A861-37089F66B71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884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888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892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5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5A27-CD34-4AFA-A41A-0F5899734E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385E-1449-4B30-970B-9B6D85E9865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52F-4358-44AD-9C0F-F24E2208960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F0C1-DB7D-41CE-8403-366A82CF7C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0B95-DFB3-407A-8A33-6F7E2A5108D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70A-710C-438E-A6C4-727B4CD6627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686-098A-4FBC-8FB7-4B1CBEE7A7B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1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202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5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206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9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210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0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1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2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413B-A328-4E5E-A993-EB3B593982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CAC-C951-42D0-9A86-E87582A2E9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7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7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7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A75-9A72-4677-9BC2-47477360CF3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7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F4F8-A761-47F9-9FCE-B89D94B043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8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8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8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E04C-E8B6-4CEA-A8A2-1B5B5846C4F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8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8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8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E61-2939-43E4-996E-A183BE87F7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6D5A-2C80-4C53-B487-E731D7719AE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520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3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524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528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dt" idx="8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ftr" idx="8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sldNum" idx="9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6E28-4525-4101-8638-443EF2FB59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dt" idx="9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ftr" idx="9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sldNum" idx="9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E7A9-D9A6-45F2-BFA7-C334E3DB4C8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9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9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9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285-E775-4189-AAA6-AF4C1F0B58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9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9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9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67A9-7B59-410F-8E82-815D5964B5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10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ftr" idx="10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 type="sldNum" idx="10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5144-BE9A-414E-9750-C99BEE21A83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 type="dt" idx="10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 type="ftr" idx="10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 type="sldNum" idx="10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EF9-BC4C-45F3-896E-E2972DE2601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7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838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1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842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5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846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0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0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0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B9D-FCAF-4293-9168-1E0A7B58D1A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10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11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11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C9DB-6519-49A9-AAAE-CB20211924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 type="dt" idx="11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 type="ftr" idx="11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 type="sldNum" idx="11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E7EA-1ACC-4E0B-A686-41E43961BE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dt" idx="11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 type="ftr" idx="11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 type="sldNum" idx="11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5BF1-47C0-4F49-B745-DBFDAFD271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3305-B473-425C-B24F-1748298C60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dt" idx="11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 type="ftr" idx="11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 type="sldNum" idx="12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829B-A587-4FFC-ACE5-3607BC639E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dt" idx="12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ftr" idx="12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 type="sldNum" idx="12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9605-58F3-4A32-A0E9-4870FB891D9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15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16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16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dt" idx="124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ftr" idx="125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 type="sldNum" idx="126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6826-E768-4470-A927-F0C202D5FAB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B19-7B07-4BB0-8817-399FB06A22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348A-B3AF-49D1-86D1-5C65BEDB4D0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9A7D-C99D-4C71-B54F-3AB87AEE252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BF74-6B2A-4CE2-9279-99821B7405D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216-9647-4A70-9092-61B8C22E56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8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220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cience Review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ystem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igest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Nervou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nd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Nervou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7" name="Picture 4" descr="C:\Users\DSU\AppData\Local\Microsoft\Windows\Temporary Internet Files\Content.IE5\N46ZUYAR\MC900028125[1].wmf"/>
          <p:cNvPicPr/>
          <p:nvPr/>
        </p:nvPicPr>
        <p:blipFill>
          <a:blip r:embed="rId2"/>
          <a:stretch/>
        </p:blipFill>
        <p:spPr>
          <a:xfrm>
            <a:off x="538200" y="422280"/>
            <a:ext cx="3043080" cy="2843280"/>
          </a:xfrm>
          <a:prstGeom prst="rect">
            <a:avLst/>
          </a:prstGeom>
          <a:ln w="0">
            <a:noFill/>
          </a:ln>
        </p:spPr>
      </p:pic>
      <p:sp>
        <p:nvSpPr>
          <p:cNvPr id="2308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265560"/>
            <a:ext cx="1371600" cy="849240"/>
          </a:xfrm>
          <a:custGeom>
            <a:avLst/>
            <a:gdLst>
              <a:gd name="textAreaLeft" fmla="*/ 54720 w 1371600"/>
              <a:gd name="textAreaRight" fmla="*/ 1316880 w 1371600"/>
              <a:gd name="textAreaTop" fmla="*/ 54720 h 849240"/>
              <a:gd name="textAreaBottom" fmla="*/ 794520 h 849240"/>
            </a:gdLst>
            <a:ahLst/>
            <a:rect l="textAreaLeft" t="textAreaTop" r="textAreaRight" b="textAreaBottom"/>
            <a:pathLst>
              <a:path w="34880" h="21600">
                <a:moveTo>
                  <a:pt x="0" y="0"/>
                </a:moveTo>
                <a:lnTo>
                  <a:pt x="34880" y="0"/>
                </a:lnTo>
                <a:lnTo>
                  <a:pt x="34880" y="21600"/>
                </a:lnTo>
                <a:lnTo>
                  <a:pt x="0" y="21600"/>
                </a:lnTo>
                <a:close/>
              </a:path>
              <a:path fill="lightenLess" w="34880" h="21600">
                <a:moveTo>
                  <a:pt x="0" y="0"/>
                </a:moveTo>
                <a:lnTo>
                  <a:pt x="34880" y="0"/>
                </a:lnTo>
                <a:lnTo>
                  <a:pt x="33480" y="1400"/>
                </a:lnTo>
                <a:lnTo>
                  <a:pt x="1400" y="1400"/>
                </a:lnTo>
                <a:close/>
              </a:path>
              <a:path fill="darken" w="34880" h="21600">
                <a:moveTo>
                  <a:pt x="34880" y="0"/>
                </a:moveTo>
                <a:lnTo>
                  <a:pt x="34880" y="21600"/>
                </a:lnTo>
                <a:lnTo>
                  <a:pt x="33480" y="20200"/>
                </a:lnTo>
                <a:lnTo>
                  <a:pt x="33480" y="1400"/>
                </a:lnTo>
                <a:close/>
              </a:path>
              <a:path fill="darkenLess" w="34880" h="21600">
                <a:moveTo>
                  <a:pt x="34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0" y="20200"/>
                </a:lnTo>
                <a:close/>
              </a:path>
              <a:path fill="lighten" w="34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0" h="21600">
                <a:moveTo>
                  <a:pt x="10434" y="3794"/>
                </a:moveTo>
                <a:lnTo>
                  <a:pt x="24447" y="10800"/>
                </a:lnTo>
                <a:lnTo>
                  <a:pt x="10434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fru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Appl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Tomat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rbel"/>
              </a:rPr>
              <a:t>Lettuc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Mang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Tomato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8" name="Picture 4" descr="C:\Users\DSU\AppData\Local\Microsoft\Windows\Temporary Internet Files\Content.IE5\Y1P5VRFW\MP900439292[1].jpg"/>
          <p:cNvPicPr/>
          <p:nvPr/>
        </p:nvPicPr>
        <p:blipFill>
          <a:blip r:embed="rId2"/>
          <a:stretch/>
        </p:blipFill>
        <p:spPr>
          <a:xfrm>
            <a:off x="723960" y="4572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2319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30"/>
          <p:cNvSpPr/>
          <p:nvPr/>
        </p:nvSpPr>
        <p:spPr>
          <a:xfrm>
            <a:off x="609480" y="6324480"/>
            <a:ext cx="15264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Text Box 21"/>
          <p:cNvSpPr/>
          <p:nvPr/>
        </p:nvSpPr>
        <p:spPr>
          <a:xfrm>
            <a:off x="0" y="5867280"/>
            <a:ext cx="2819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Point Design by Jim Lut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ther@cftd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h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Buttons For More Inf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Rectangle 2"/>
          <p:cNvSpPr/>
          <p:nvPr/>
        </p:nvSpPr>
        <p:spPr>
          <a:xfrm>
            <a:off x="609480" y="1219320"/>
            <a:ext cx="5410440" cy="205740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can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Rectangle 3"/>
          <p:cNvSpPr/>
          <p:nvPr/>
        </p:nvSpPr>
        <p:spPr>
          <a:xfrm>
            <a:off x="609480" y="3276720"/>
            <a:ext cx="5410440" cy="137160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can 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Seconds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ngle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can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Text Box 9"/>
          <p:cNvSpPr/>
          <p:nvPr/>
        </p:nvSpPr>
        <p:spPr>
          <a:xfrm>
            <a:off x="609480" y="228600"/>
            <a:ext cx="5410440" cy="8251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Scan Setup Sli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11"/>
          <p:cNvSpPr/>
          <p:nvPr/>
        </p:nvSpPr>
        <p:spPr>
          <a:xfrm>
            <a:off x="6172200" y="228600"/>
            <a:ext cx="2590920" cy="441972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Text Box 12"/>
          <p:cNvSpPr/>
          <p:nvPr/>
        </p:nvSpPr>
        <p:spPr>
          <a:xfrm>
            <a:off x="632448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S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32"/>
          <p:cNvSpPr/>
          <p:nvPr/>
        </p:nvSpPr>
        <p:spPr>
          <a:xfrm>
            <a:off x="609480" y="4806000"/>
            <a:ext cx="3276720" cy="3682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 the name of the test tak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Action Button: Forward or Next 1">
            <a:hlinkClick r:id="" action="ppaction://hlinkshowjump?jump=nextslide"/>
          </p:cNvPr>
          <p:cNvSpPr/>
          <p:nvPr/>
        </p:nvSpPr>
        <p:spPr>
          <a:xfrm>
            <a:off x="750564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vegetab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Pea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Bana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Appl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Lettu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8" name="Picture 5" descr="C:\Users\DSU\AppData\Local\Microsoft\Windows\Temporary Internet Files\Content.IE5\N46ZUYAR\MP900430738[1].jpg"/>
          <p:cNvPicPr/>
          <p:nvPr/>
        </p:nvPicPr>
        <p:blipFill>
          <a:blip r:embed="rId3"/>
          <a:stretch/>
        </p:blipFill>
        <p:spPr>
          <a:xfrm>
            <a:off x="216000" y="146160"/>
            <a:ext cx="2908080" cy="2896920"/>
          </a:xfrm>
          <a:prstGeom prst="rect">
            <a:avLst/>
          </a:prstGeom>
          <a:ln w="0">
            <a:noFill/>
          </a:ln>
        </p:spPr>
      </p:pic>
      <p:sp>
        <p:nvSpPr>
          <p:cNvPr id="2219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Bana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Action Button: Forward or Next 1">
            <a:hlinkClick r:id="" action="ppaction://hlinkshowjump?jump=nextslide"/>
          </p:cNvPr>
          <p:cNvSpPr/>
          <p:nvPr/>
        </p:nvSpPr>
        <p:spPr>
          <a:xfrm>
            <a:off x="3924360" y="3429000"/>
            <a:ext cx="1181160" cy="609480"/>
          </a:xfrm>
          <a:custGeom>
            <a:avLst/>
            <a:gdLst>
              <a:gd name="textAreaLeft" fmla="*/ 39240 w 1181160"/>
              <a:gd name="textAreaRight" fmla="*/ 1141920 w 1181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1848" h="21600">
                <a:moveTo>
                  <a:pt x="0" y="0"/>
                </a:moveTo>
                <a:lnTo>
                  <a:pt x="41848" y="0"/>
                </a:lnTo>
                <a:lnTo>
                  <a:pt x="41848" y="21600"/>
                </a:lnTo>
                <a:lnTo>
                  <a:pt x="0" y="21600"/>
                </a:lnTo>
                <a:close/>
              </a:path>
              <a:path fill="lightenLess" w="41848" h="21600">
                <a:moveTo>
                  <a:pt x="0" y="0"/>
                </a:moveTo>
                <a:lnTo>
                  <a:pt x="41848" y="0"/>
                </a:lnTo>
                <a:lnTo>
                  <a:pt x="40448" y="1400"/>
                </a:lnTo>
                <a:lnTo>
                  <a:pt x="1400" y="1400"/>
                </a:lnTo>
                <a:close/>
              </a:path>
              <a:path fill="darken" w="41848" h="21600">
                <a:moveTo>
                  <a:pt x="41848" y="0"/>
                </a:moveTo>
                <a:lnTo>
                  <a:pt x="41848" y="21600"/>
                </a:lnTo>
                <a:lnTo>
                  <a:pt x="40448" y="20200"/>
                </a:lnTo>
                <a:lnTo>
                  <a:pt x="40448" y="1400"/>
                </a:lnTo>
                <a:close/>
              </a:path>
              <a:path fill="darkenLess" w="41848" h="21600">
                <a:moveTo>
                  <a:pt x="41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8" y="20200"/>
                </a:lnTo>
                <a:close/>
              </a:path>
              <a:path fill="lighten" w="41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8" h="21600">
                <a:moveTo>
                  <a:pt x="13918" y="3794"/>
                </a:moveTo>
                <a:lnTo>
                  <a:pt x="27931" y="10800"/>
                </a:lnTo>
                <a:lnTo>
                  <a:pt x="13918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amphib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urt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ro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oa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9" name="Picture 3" descr="C:\Users\DSU\AppData\Local\Microsoft\Windows\Temporary Internet Files\Content.IE5\85IVXTT6\MP900437335[1].jpg"/>
          <p:cNvPicPr/>
          <p:nvPr/>
        </p:nvPicPr>
        <p:blipFill>
          <a:blip r:embed="rId3"/>
          <a:stretch/>
        </p:blipFill>
        <p:spPr>
          <a:xfrm>
            <a:off x="380880" y="258840"/>
            <a:ext cx="3060720" cy="3057480"/>
          </a:xfrm>
          <a:prstGeom prst="rect">
            <a:avLst/>
          </a:prstGeom>
          <a:ln w="0">
            <a:noFill/>
          </a:ln>
        </p:spPr>
      </p:pic>
      <p:sp>
        <p:nvSpPr>
          <p:cNvPr id="2230" name="Flowchart: Process 2"/>
          <p:cNvSpPr/>
          <p:nvPr/>
        </p:nvSpPr>
        <p:spPr>
          <a:xfrm>
            <a:off x="4114800" y="380880"/>
            <a:ext cx="430524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Action Button: Forward or Next 1">
            <a:hlinkClick r:id="" action="ppaction://hlinkshowjump?jump=nextslide"/>
          </p:cNvPr>
          <p:cNvSpPr/>
          <p:nvPr/>
        </p:nvSpPr>
        <p:spPr>
          <a:xfrm>
            <a:off x="3809880" y="350532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3794"/>
                </a:moveTo>
                <a:lnTo>
                  <a:pt x="27405" y="10800"/>
                </a:lnTo>
                <a:lnTo>
                  <a:pt x="1339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TextBox 2"/>
          <p:cNvSpPr/>
          <p:nvPr/>
        </p:nvSpPr>
        <p:spPr>
          <a:xfrm>
            <a:off x="3924360" y="24368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reptile is th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ur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0" name="Picture 3" descr="C:\Users\DSU\AppData\Local\Microsoft\Windows\Temporary Internet Files\Content.IE5\85IVXTT6\MP900313910[1].jpg"/>
          <p:cNvPicPr/>
          <p:nvPr/>
        </p:nvPicPr>
        <p:blipFill>
          <a:blip r:embed="rId3"/>
          <a:stretch/>
        </p:blipFill>
        <p:spPr>
          <a:xfrm>
            <a:off x="533520" y="285840"/>
            <a:ext cx="2743200" cy="2555640"/>
          </a:xfrm>
          <a:prstGeom prst="rect">
            <a:avLst/>
          </a:prstGeom>
          <a:ln w="0">
            <a:noFill/>
          </a:ln>
        </p:spPr>
      </p:pic>
      <p:sp>
        <p:nvSpPr>
          <p:cNvPr id="2241" name="Flowchart: Process 2"/>
          <p:cNvSpPr/>
          <p:nvPr/>
        </p:nvSpPr>
        <p:spPr>
          <a:xfrm>
            <a:off x="3924360" y="380880"/>
            <a:ext cx="461016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Action Button: Forward or Next 1">
            <a:hlinkClick r:id="" action="ppaction://hlinkshowjump?jump=nextslide"/>
          </p:cNvPr>
          <p:cNvSpPr/>
          <p:nvPr/>
        </p:nvSpPr>
        <p:spPr>
          <a:xfrm>
            <a:off x="358128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TextBox 2"/>
          <p:cNvSpPr/>
          <p:nvPr/>
        </p:nvSpPr>
        <p:spPr>
          <a:xfrm>
            <a:off x="3924360" y="243684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part of the skeletal system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Spinal Colum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Action Button: Custom 4"/>
          <p:cNvSpPr/>
          <p:nvPr/>
        </p:nvSpPr>
        <p:spPr>
          <a:xfrm>
            <a:off x="0" y="5435640"/>
            <a:ext cx="2768760" cy="121932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40" h="21600">
                <a:moveTo>
                  <a:pt x="0" y="0"/>
                </a:moveTo>
                <a:lnTo>
                  <a:pt x="49040" y="0"/>
                </a:lnTo>
                <a:lnTo>
                  <a:pt x="49040" y="21600"/>
                </a:lnTo>
                <a:lnTo>
                  <a:pt x="0" y="21600"/>
                </a:lnTo>
                <a:close/>
              </a:path>
              <a:path fill="lightenLess" w="49040" h="21600">
                <a:moveTo>
                  <a:pt x="0" y="0"/>
                </a:moveTo>
                <a:lnTo>
                  <a:pt x="49040" y="0"/>
                </a:lnTo>
                <a:lnTo>
                  <a:pt x="47640" y="1400"/>
                </a:lnTo>
                <a:lnTo>
                  <a:pt x="1400" y="1400"/>
                </a:lnTo>
                <a:close/>
              </a:path>
              <a:path fill="darken" w="49040" h="21600">
                <a:moveTo>
                  <a:pt x="49040" y="0"/>
                </a:moveTo>
                <a:lnTo>
                  <a:pt x="49040" y="21600"/>
                </a:lnTo>
                <a:lnTo>
                  <a:pt x="47640" y="20200"/>
                </a:lnTo>
                <a:lnTo>
                  <a:pt x="47640" y="1400"/>
                </a:lnTo>
                <a:close/>
              </a:path>
              <a:path fill="darkenLess" w="49040" h="21600">
                <a:moveTo>
                  <a:pt x="49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40" y="20200"/>
                </a:lnTo>
                <a:close/>
              </a:path>
              <a:path fill="lighten" w="49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emu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Action Button: Custom 5"/>
          <p:cNvSpPr/>
          <p:nvPr/>
        </p:nvSpPr>
        <p:spPr>
          <a:xfrm>
            <a:off x="5867280" y="3784680"/>
            <a:ext cx="2895840" cy="121896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1306" h="21600">
                <a:moveTo>
                  <a:pt x="0" y="0"/>
                </a:moveTo>
                <a:lnTo>
                  <a:pt x="51306" y="0"/>
                </a:lnTo>
                <a:lnTo>
                  <a:pt x="51306" y="21600"/>
                </a:lnTo>
                <a:lnTo>
                  <a:pt x="0" y="21600"/>
                </a:lnTo>
                <a:close/>
              </a:path>
              <a:path fill="lightenLess" w="51306" h="21600">
                <a:moveTo>
                  <a:pt x="0" y="0"/>
                </a:moveTo>
                <a:lnTo>
                  <a:pt x="51306" y="0"/>
                </a:lnTo>
                <a:lnTo>
                  <a:pt x="49906" y="1400"/>
                </a:lnTo>
                <a:lnTo>
                  <a:pt x="1400" y="1400"/>
                </a:lnTo>
                <a:close/>
              </a:path>
              <a:path fill="darken" w="51306" h="21600">
                <a:moveTo>
                  <a:pt x="51306" y="0"/>
                </a:moveTo>
                <a:lnTo>
                  <a:pt x="51306" y="21600"/>
                </a:lnTo>
                <a:lnTo>
                  <a:pt x="49906" y="20200"/>
                </a:lnTo>
                <a:lnTo>
                  <a:pt x="49906" y="1400"/>
                </a:lnTo>
                <a:close/>
              </a:path>
              <a:path fill="darkenLess" w="51306" h="21600">
                <a:moveTo>
                  <a:pt x="51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06" y="20200"/>
                </a:lnTo>
                <a:close/>
              </a:path>
              <a:path fill="lighten" w="51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Ul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Patell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1" name="Picture 3" descr="C:\Users\DSU\AppData\Local\Microsoft\Windows\Temporary Internet Files\Content.IE5\85IVXTT6\MP900448601[1].jpg"/>
          <p:cNvPicPr/>
          <p:nvPr/>
        </p:nvPicPr>
        <p:blipFill>
          <a:blip r:embed="rId3"/>
          <a:stretch/>
        </p:blipFill>
        <p:spPr>
          <a:xfrm>
            <a:off x="533520" y="15228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2252" name="Flowchart: Process 2"/>
          <p:cNvSpPr/>
          <p:nvPr/>
        </p:nvSpPr>
        <p:spPr>
          <a:xfrm>
            <a:off x="3924360" y="457200"/>
            <a:ext cx="4495680" cy="18288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Femu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513240"/>
            <a:ext cx="1066680" cy="753840"/>
          </a:xfrm>
          <a:custGeom>
            <a:avLst/>
            <a:gdLst>
              <a:gd name="textAreaLeft" fmla="*/ 48600 w 1066680"/>
              <a:gd name="textAreaRight" fmla="*/ 1018080 w 106668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30560" h="21600">
                <a:moveTo>
                  <a:pt x="0" y="0"/>
                </a:moveTo>
                <a:lnTo>
                  <a:pt x="30560" y="0"/>
                </a:lnTo>
                <a:lnTo>
                  <a:pt x="30560" y="21600"/>
                </a:lnTo>
                <a:lnTo>
                  <a:pt x="0" y="21600"/>
                </a:lnTo>
                <a:close/>
              </a:path>
              <a:path fill="lightenLess" w="30560" h="21600">
                <a:moveTo>
                  <a:pt x="0" y="0"/>
                </a:moveTo>
                <a:lnTo>
                  <a:pt x="30560" y="0"/>
                </a:lnTo>
                <a:lnTo>
                  <a:pt x="29160" y="1400"/>
                </a:lnTo>
                <a:lnTo>
                  <a:pt x="1400" y="1400"/>
                </a:lnTo>
                <a:close/>
              </a:path>
              <a:path fill="darken" w="30560" h="21600">
                <a:moveTo>
                  <a:pt x="30560" y="0"/>
                </a:moveTo>
                <a:lnTo>
                  <a:pt x="30560" y="21600"/>
                </a:lnTo>
                <a:lnTo>
                  <a:pt x="29160" y="20200"/>
                </a:lnTo>
                <a:lnTo>
                  <a:pt x="29160" y="1400"/>
                </a:lnTo>
                <a:close/>
              </a:path>
              <a:path fill="darkenLess" w="30560" h="21600">
                <a:moveTo>
                  <a:pt x="30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0" y="20200"/>
                </a:lnTo>
                <a:close/>
              </a:path>
              <a:path fill="lighten" w="30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0" h="21600">
                <a:moveTo>
                  <a:pt x="8273" y="3794"/>
                </a:moveTo>
                <a:lnTo>
                  <a:pt x="22286" y="10800"/>
                </a:lnTo>
                <a:lnTo>
                  <a:pt x="8273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Box 2"/>
          <p:cNvSpPr/>
          <p:nvPr/>
        </p:nvSpPr>
        <p:spPr>
          <a:xfrm>
            <a:off x="3924360" y="24368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art of the skeletal system is th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Pat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Radi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Spinal Colum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ibu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2" name="Picture 3" descr="C:\Users\DSU\AppData\Local\Microsoft\Windows\Temporary Internet Files\Content.IE5\N46ZUYAR\MP900385791[1].jpg"/>
          <p:cNvPicPr/>
          <p:nvPr/>
        </p:nvPicPr>
        <p:blipFill>
          <a:blip r:embed="rId2"/>
          <a:stretch/>
        </p:blipFill>
        <p:spPr>
          <a:xfrm>
            <a:off x="304920" y="380880"/>
            <a:ext cx="3352680" cy="2022480"/>
          </a:xfrm>
          <a:prstGeom prst="rect">
            <a:avLst/>
          </a:prstGeom>
          <a:ln w="0">
            <a:noFill/>
          </a:ln>
        </p:spPr>
      </p:pic>
      <p:sp>
        <p:nvSpPr>
          <p:cNvPr id="2263" name="Flowchart: Process 2"/>
          <p:cNvSpPr/>
          <p:nvPr/>
        </p:nvSpPr>
        <p:spPr>
          <a:xfrm>
            <a:off x="4343400" y="533520"/>
            <a:ext cx="4267080" cy="186984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Radi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835440"/>
            <a:ext cx="1523880" cy="469800"/>
          </a:xfrm>
          <a:custGeom>
            <a:avLst/>
            <a:gdLst>
              <a:gd name="textAreaLeft" fmla="*/ 30240 w 1523880"/>
              <a:gd name="textAreaRight" fmla="*/ 1493640 w 152388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70026" h="21600">
                <a:moveTo>
                  <a:pt x="0" y="0"/>
                </a:moveTo>
                <a:lnTo>
                  <a:pt x="70026" y="0"/>
                </a:lnTo>
                <a:lnTo>
                  <a:pt x="70026" y="21600"/>
                </a:lnTo>
                <a:lnTo>
                  <a:pt x="0" y="21600"/>
                </a:lnTo>
                <a:close/>
              </a:path>
              <a:path fill="lightenLess" w="70026" h="21600">
                <a:moveTo>
                  <a:pt x="0" y="0"/>
                </a:moveTo>
                <a:lnTo>
                  <a:pt x="70026" y="0"/>
                </a:lnTo>
                <a:lnTo>
                  <a:pt x="68626" y="1400"/>
                </a:lnTo>
                <a:lnTo>
                  <a:pt x="1400" y="1400"/>
                </a:lnTo>
                <a:close/>
              </a:path>
              <a:path fill="darken" w="70026" h="21600">
                <a:moveTo>
                  <a:pt x="70026" y="0"/>
                </a:moveTo>
                <a:lnTo>
                  <a:pt x="70026" y="21600"/>
                </a:lnTo>
                <a:lnTo>
                  <a:pt x="68626" y="20200"/>
                </a:lnTo>
                <a:lnTo>
                  <a:pt x="68626" y="1400"/>
                </a:lnTo>
                <a:close/>
              </a:path>
              <a:path fill="darkenLess" w="70026" h="21600">
                <a:moveTo>
                  <a:pt x="7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626" y="20200"/>
                </a:lnTo>
                <a:close/>
              </a:path>
              <a:path fill="lighten" w="7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026" h="21600">
                <a:moveTo>
                  <a:pt x="28007" y="3794"/>
                </a:moveTo>
                <a:lnTo>
                  <a:pt x="42020" y="10800"/>
                </a:lnTo>
                <a:lnTo>
                  <a:pt x="28007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TextBox 2"/>
          <p:cNvSpPr/>
          <p:nvPr/>
        </p:nvSpPr>
        <p:spPr>
          <a:xfrm>
            <a:off x="4267080" y="243684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system is the heart pa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ircul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nd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x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3" name="Picture 3" descr="C:\Users\DSU\AppData\Local\Microsoft\Windows\Temporary Internet Files\Content.IE5\N46ZUYAR\MC900438743[1].jpg"/>
          <p:cNvPicPr/>
          <p:nvPr/>
        </p:nvPicPr>
        <p:blipFill>
          <a:blip r:embed="rId2"/>
          <a:stretch/>
        </p:blipFill>
        <p:spPr>
          <a:xfrm>
            <a:off x="266760" y="154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274" name="Flowchart: Process 2"/>
          <p:cNvSpPr/>
          <p:nvPr/>
        </p:nvSpPr>
        <p:spPr>
          <a:xfrm>
            <a:off x="4495680" y="457200"/>
            <a:ext cx="422928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Action Button: Forward or Next 1">
            <a:hlinkClick r:id="" action="ppaction://hlinkshowjump?jump=nextslide"/>
          </p:cNvPr>
          <p:cNvSpPr/>
          <p:nvPr/>
        </p:nvSpPr>
        <p:spPr>
          <a:xfrm>
            <a:off x="3809880" y="3505320"/>
            <a:ext cx="1143000" cy="799920"/>
          </a:xfrm>
          <a:custGeom>
            <a:avLst/>
            <a:gdLst>
              <a:gd name="textAreaLeft" fmla="*/ 51840 w 1143000"/>
              <a:gd name="textAreaRight" fmla="*/ 1091160 w 114300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30860" h="21600">
                <a:moveTo>
                  <a:pt x="0" y="0"/>
                </a:moveTo>
                <a:lnTo>
                  <a:pt x="30860" y="0"/>
                </a:lnTo>
                <a:lnTo>
                  <a:pt x="30860" y="21600"/>
                </a:lnTo>
                <a:lnTo>
                  <a:pt x="0" y="21600"/>
                </a:lnTo>
                <a:close/>
              </a:path>
              <a:path fill="lightenLess" w="30860" h="21600">
                <a:moveTo>
                  <a:pt x="0" y="0"/>
                </a:moveTo>
                <a:lnTo>
                  <a:pt x="30860" y="0"/>
                </a:lnTo>
                <a:lnTo>
                  <a:pt x="29460" y="1400"/>
                </a:lnTo>
                <a:lnTo>
                  <a:pt x="1400" y="1400"/>
                </a:lnTo>
                <a:close/>
              </a:path>
              <a:path fill="darken" w="30860" h="21600">
                <a:moveTo>
                  <a:pt x="30860" y="0"/>
                </a:moveTo>
                <a:lnTo>
                  <a:pt x="30860" y="21600"/>
                </a:lnTo>
                <a:lnTo>
                  <a:pt x="29460" y="20200"/>
                </a:lnTo>
                <a:lnTo>
                  <a:pt x="29460" y="1400"/>
                </a:lnTo>
                <a:close/>
              </a:path>
              <a:path fill="darkenLess" w="30860" h="21600">
                <a:moveTo>
                  <a:pt x="3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0" y="20200"/>
                </a:lnTo>
                <a:close/>
              </a:path>
              <a:path fill="lighten" w="3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0" h="21600">
                <a:moveTo>
                  <a:pt x="8423" y="3794"/>
                </a:moveTo>
                <a:lnTo>
                  <a:pt x="22436" y="10800"/>
                </a:lnTo>
                <a:lnTo>
                  <a:pt x="8423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eason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a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5" name="Picture 3" descr="C:\Users\DSU\AppData\Local\Microsoft\Windows\Temporary Internet Files\Content.IE5\85IVXTT6\MP900432901[1].jpg"/>
          <p:cNvPicPr/>
          <p:nvPr/>
        </p:nvPicPr>
        <p:blipFill>
          <a:blip r:embed="rId2"/>
          <a:stretch/>
        </p:blipFill>
        <p:spPr>
          <a:xfrm>
            <a:off x="1143000" y="457200"/>
            <a:ext cx="2514600" cy="2792520"/>
          </a:xfrm>
          <a:prstGeom prst="rect">
            <a:avLst/>
          </a:prstGeom>
          <a:ln w="0">
            <a:noFill/>
          </a:ln>
        </p:spPr>
      </p:pic>
      <p:sp>
        <p:nvSpPr>
          <p:cNvPr id="2286" name="Action Button: Forward or Next 1">
            <a:hlinkClick r:id="" action="ppaction://hlinkshowjump?jump=nextslide"/>
          </p:cNvPr>
          <p:cNvSpPr/>
          <p:nvPr/>
        </p:nvSpPr>
        <p:spPr>
          <a:xfrm>
            <a:off x="3733920" y="3505320"/>
            <a:ext cx="1371600" cy="799920"/>
          </a:xfrm>
          <a:custGeom>
            <a:avLst/>
            <a:gdLst>
              <a:gd name="textAreaLeft" fmla="*/ 51840 w 1371600"/>
              <a:gd name="textAreaRight" fmla="*/ 1319760 w 137160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37030" h="21600">
                <a:moveTo>
                  <a:pt x="0" y="0"/>
                </a:moveTo>
                <a:lnTo>
                  <a:pt x="37030" y="0"/>
                </a:lnTo>
                <a:lnTo>
                  <a:pt x="37030" y="21600"/>
                </a:lnTo>
                <a:lnTo>
                  <a:pt x="0" y="21600"/>
                </a:lnTo>
                <a:close/>
              </a:path>
              <a:path fill="lightenLess" w="37030" h="21600">
                <a:moveTo>
                  <a:pt x="0" y="0"/>
                </a:moveTo>
                <a:lnTo>
                  <a:pt x="37030" y="0"/>
                </a:lnTo>
                <a:lnTo>
                  <a:pt x="35630" y="1400"/>
                </a:lnTo>
                <a:lnTo>
                  <a:pt x="1400" y="1400"/>
                </a:lnTo>
                <a:close/>
              </a:path>
              <a:path fill="darken" w="37030" h="21600">
                <a:moveTo>
                  <a:pt x="37030" y="0"/>
                </a:moveTo>
                <a:lnTo>
                  <a:pt x="37030" y="21600"/>
                </a:lnTo>
                <a:lnTo>
                  <a:pt x="35630" y="20200"/>
                </a:lnTo>
                <a:lnTo>
                  <a:pt x="35630" y="1400"/>
                </a:lnTo>
                <a:close/>
              </a:path>
              <a:path fill="darkenLess" w="37030" h="21600">
                <a:moveTo>
                  <a:pt x="37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0" y="20200"/>
                </a:lnTo>
                <a:close/>
              </a:path>
              <a:path fill="lighten" w="37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0" h="21600">
                <a:moveTo>
                  <a:pt x="11508" y="3794"/>
                </a:moveTo>
                <a:lnTo>
                  <a:pt x="25521" y="10800"/>
                </a:lnTo>
                <a:lnTo>
                  <a:pt x="11508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eason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a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6" name="Picture 3" descr="C:\Users\DSU\AppData\Local\Microsoft\Windows\Temporary Internet Files\Content.IE5\N46ZUYAR\MP900433029[2].jpg"/>
          <p:cNvPicPr/>
          <p:nvPr/>
        </p:nvPicPr>
        <p:blipFill>
          <a:blip r:embed="rId2"/>
          <a:stretch/>
        </p:blipFill>
        <p:spPr>
          <a:xfrm>
            <a:off x="1143000" y="450720"/>
            <a:ext cx="2514600" cy="2857680"/>
          </a:xfrm>
          <a:prstGeom prst="rect">
            <a:avLst/>
          </a:prstGeom>
          <a:ln w="0">
            <a:noFill/>
          </a:ln>
        </p:spPr>
      </p:pic>
      <p:sp>
        <p:nvSpPr>
          <p:cNvPr id="2297" name="Action Button: Forward or Next 1">
            <a:hlinkClick r:id="" action="ppaction://hlinkshowjump?jump=nextslide"/>
          </p:cNvPr>
          <p:cNvSpPr/>
          <p:nvPr/>
        </p:nvSpPr>
        <p:spPr>
          <a:xfrm>
            <a:off x="3924360" y="3581280"/>
            <a:ext cx="1485720" cy="723960"/>
          </a:xfrm>
          <a:custGeom>
            <a:avLst/>
            <a:gdLst>
              <a:gd name="textAreaLeft" fmla="*/ 46800 w 1485720"/>
              <a:gd name="textAreaRight" fmla="*/ 1438920 w 1485720"/>
              <a:gd name="textAreaTop" fmla="*/ 46800 h 723960"/>
              <a:gd name="textAreaBottom" fmla="*/ 677160 h 723960"/>
            </a:gdLst>
            <a:ahLst/>
            <a:rect l="textAreaLeft" t="textAreaTop" r="textAreaRight" b="textAreaBottom"/>
            <a:pathLst>
              <a:path w="44317" h="21600">
                <a:moveTo>
                  <a:pt x="0" y="0"/>
                </a:moveTo>
                <a:lnTo>
                  <a:pt x="44317" y="0"/>
                </a:lnTo>
                <a:lnTo>
                  <a:pt x="44317" y="21600"/>
                </a:lnTo>
                <a:lnTo>
                  <a:pt x="0" y="21600"/>
                </a:lnTo>
                <a:close/>
              </a:path>
              <a:path fill="lightenLess" w="44317" h="21600">
                <a:moveTo>
                  <a:pt x="0" y="0"/>
                </a:moveTo>
                <a:lnTo>
                  <a:pt x="44317" y="0"/>
                </a:lnTo>
                <a:lnTo>
                  <a:pt x="42917" y="1400"/>
                </a:lnTo>
                <a:lnTo>
                  <a:pt x="1400" y="1400"/>
                </a:lnTo>
                <a:close/>
              </a:path>
              <a:path fill="darken" w="44317" h="21600">
                <a:moveTo>
                  <a:pt x="44317" y="0"/>
                </a:moveTo>
                <a:lnTo>
                  <a:pt x="44317" y="21600"/>
                </a:lnTo>
                <a:lnTo>
                  <a:pt x="42917" y="20200"/>
                </a:lnTo>
                <a:lnTo>
                  <a:pt x="42917" y="1400"/>
                </a:lnTo>
                <a:close/>
              </a:path>
              <a:path fill="darkenLess" w="44317" h="21600">
                <a:moveTo>
                  <a:pt x="44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7" y="20200"/>
                </a:lnTo>
                <a:close/>
              </a:path>
              <a:path fill="lighten" w="44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7" h="21600">
                <a:moveTo>
                  <a:pt x="15152" y="3794"/>
                </a:moveTo>
                <a:lnTo>
                  <a:pt x="29165" y="10800"/>
                </a:lnTo>
                <a:lnTo>
                  <a:pt x="1515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6:07:10Z</dcterms:created>
  <dc:creator>jim luther</dc:creator>
  <dc:description/>
  <dc:language>en-US</dc:language>
  <cp:lastModifiedBy>Windows User</cp:lastModifiedBy>
  <dcterms:modified xsi:type="dcterms:W3CDTF">2011-10-31T02:42:54Z</dcterms:modified>
  <cp:revision>87</cp:revision>
  <dc:subject/>
  <dc:title>No Slide Title</dc:title>
</cp:coreProperties>
</file>